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708A-A3BB-4CE6-8B7A-783B1954A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5294-2D64-4510-B0BC-D80E521FD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EA38BFA-8A35-4DA0-BB52-4409CCD4393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FC6707-FCC8-4A71-B0D2-B23D0CF9A1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D7B548-341D-45F8-A379-BC131775FE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36484C-0E7D-4C6E-A54B-2A794EAD18F7}" type="datetime">
              <a:rPr b="0" lang="en-US" sz="1200" spc="-1" strike="noStrike">
                <a:solidFill>
                  <a:srgbClr val="000000"/>
                </a:solidFill>
                <a:latin typeface="Times New Roman"/>
                <a:ea typeface="Arial"/>
              </a:rPr>
              <a:t>07/30/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40B059-AEFE-4340-9426-FC86BD4DAD60}" type="datetime3">
              <a:rPr b="0" lang="en-US" sz="1200" spc="-1" strike="noStrike">
                <a:solidFill>
                  <a:srgbClr val="000000"/>
                </a:solidFill>
                <a:latin typeface="Times New Roman"/>
                <a:ea typeface="Arial"/>
              </a:rPr>
              <a:t>July 30,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CD0651-B8B4-4CBD-BB4E-CE791797C1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6425B-8D1B-428F-914E-12249F78D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11DB9-F8FA-4274-A6D4-228D0CB4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24279-A8DC-4086-A914-C178F3276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0C516-4FAF-435C-91D7-12B4E9D60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AB6F-E0C5-4D62-B261-0D8D5DC3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E81D7-8E01-4F06-A541-06F08BA9A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224FD-F45F-4A94-A672-45B05A20C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8EA95-FED6-4564-BD7F-A9D881BA5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52281-5335-4740-A855-3F299EC6E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129D8-5BB9-4318-8612-3FBFBBE84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C7915-A157-4C40-9313-417D2F1D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96201-0E1A-4C75-9DAD-14E8F8598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F487-3052-432F-B27B-5A15C2424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0721-6B09-467E-9A4D-9640DC258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47DCE-53CB-491D-A9FC-2F8D7F922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16ADD-FADA-4547-98B9-A60964798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09689-A689-4384-8057-5297DA5D6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D5D34-ED1C-4456-B235-365A94027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7E26-C1D4-456C-8CC4-3F18AA42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69FA-325D-4FA6-914B-7A0E566C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81854-5E64-4F21-BE39-89715808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311B-90DC-40B9-8BAB-4EDDECF6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DEA6-D4F3-4CC0-ADD2-DBB7817A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76B9-2B8B-4870-A916-263AD35EF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1085-5597-46B4-9D71-65909B440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A8A1D2-99B3-4B07-8312-B4303B9A6D4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312FE3B-B305-4D86-AFF2-7092291BF94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D610DE2-D785-4A34-9D7D-A3F4C400C9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D334-2171-4E62-8BAA-8D720A34095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534D90-3490-4F27-BED2-74E9BEDB6C3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15BF27-5CC8-4088-A223-953BFC384A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505100-9A0F-4DE0-B049-BBF937F46E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